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0BF-F45F-4E1B-9E1A-49C84752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3B5-3814-4CCE-A40E-9EC956D1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BEF-14F6-4C83-B1DB-A47DFB8F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7B4-C96B-4775-8758-669D4EDF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AA9-71AD-45B9-B81A-A3B7D8EC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B0D-F71A-4522-B9AB-3C4BFFF3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A74-C89D-4168-B674-25EC471C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932-9F53-4812-844A-47E9533B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93F-8946-486E-849D-C30CC394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354-E99C-407D-B68F-6701E92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BF1-E628-4592-880B-94D1C21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C4B-A694-4502-8B9A-851931D4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E9AA-8EB7-44ED-B86A-68A87AE7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eature of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nt economi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895480"/>
            <a:ext cx="8218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ulti-ethnic,multi-religi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nsisting of two regions and federation of 13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ood tourist poi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xcellent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illiant scen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thnic composi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 Malay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1280" y="1628640"/>
          <a:ext cx="8116920" cy="456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11692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of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y have benef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and the civil service, ethnic Chinese hold economic power and wealthiest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60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alay &gt;china and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1:36:13Z</dcterms:created>
  <dc:creator>Hiyoshi ITC</dc:creator>
  <dc:description/>
  <dc:language>en-US</dc:language>
  <cp:lastModifiedBy>Hiyoshi ITC</cp:lastModifiedBy>
  <dcterms:modified xsi:type="dcterms:W3CDTF">2008-11-07T01:40:23Z</dcterms:modified>
  <cp:revision>2</cp:revision>
  <dc:subject/>
  <dc:title>The feature of Malaysia</dc:title>
</cp:coreProperties>
</file>